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wmf" ContentType="image/x-wmf"/>
  <Override PartName="/ppt/media/image13.png" ContentType="image/png"/>
  <Override PartName="/ppt/media/image11.jpeg" ContentType="image/jpeg"/>
  <Override PartName="/ppt/media/image9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.png" ContentType="image/png"/>
  <Override PartName="/ppt/media/image25.wmf" ContentType="image/x-wmf"/>
  <Override PartName="/ppt/media/image14.png" ContentType="image/png"/>
  <Override PartName="/ppt/media/image22.wmf" ContentType="image/x-wmf"/>
  <Override PartName="/ppt/media/image26.jpeg" ContentType="image/jpeg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52B-61EC-411D-ABEA-1DEE88AB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B16-D57B-4CD5-A537-ED359B03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644-E779-4E3C-87EE-4AB17A04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010-46C1-40D4-921A-BC057A74D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DB0E-560C-4495-A804-2424554B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4AA-8D44-4259-90DF-FA288DE7F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8DD-0470-42F7-9F23-3D20715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5087-BD90-4198-9A80-C5C1788A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938-B40B-4EDA-8EE8-0EA85524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8982-CD38-4712-9C07-2F10077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88C-5046-4183-898C-9317490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B5F-2D25-4B64-9D80-22B15174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1C2F-6C1C-4F4D-B704-E35D3233D6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eyond Da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ulti-Objective Decision M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John Nov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ugust 5,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Sandra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17640" cy="3962520"/>
          </a:xfrm>
          <a:prstGeom prst="rect">
            <a:avLst/>
          </a:prstGeom>
          <a:ln w="0">
            <a:noFill/>
          </a:ln>
        </p:spPr>
      </p:pic>
      <p:pic>
        <p:nvPicPr>
          <p:cNvPr id="83" name="chelsea_WHO" descr=""/>
          <p:cNvPicPr/>
          <p:nvPr/>
        </p:nvPicPr>
        <p:blipFill>
          <a:blip r:embed="rId2"/>
          <a:stretch/>
        </p:blipFill>
        <p:spPr>
          <a:xfrm>
            <a:off x="6019920" y="2438280"/>
            <a:ext cx="2928960" cy="4057920"/>
          </a:xfrm>
          <a:prstGeom prst="rect">
            <a:avLst/>
          </a:prstGeom>
          <a:ln w="0">
            <a:noFill/>
          </a:ln>
        </p:spPr>
      </p:pic>
      <p:pic>
        <p:nvPicPr>
          <p:cNvPr id="84" name="Pam2" descr=""/>
          <p:cNvPicPr/>
          <p:nvPr/>
        </p:nvPicPr>
        <p:blipFill>
          <a:blip r:embed="rId3"/>
          <a:stretch/>
        </p:blipFill>
        <p:spPr>
          <a:xfrm>
            <a:off x="380880" y="2438280"/>
            <a:ext cx="2362320" cy="39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ndra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irl Nex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838080"/>
            <a:ext cx="3429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elsea 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n Analytical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3048120" y="23623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2400" y="3249720"/>
            <a:ext cx="1641240" cy="845640"/>
          </a:xfrm>
          <a:custGeom>
            <a:avLst/>
            <a:gdLst>
              <a:gd name="textAreaLeft" fmla="*/ 374400 w 1641240"/>
              <a:gd name="textAreaRight" fmla="*/ 1266840 w 164124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971440" y="24382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2438280"/>
            <a:ext cx="380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800" y="2438280"/>
            <a:ext cx="2362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06640" y="3249720"/>
            <a:ext cx="1577520" cy="845640"/>
          </a:xfrm>
          <a:custGeom>
            <a:avLst/>
            <a:gdLst>
              <a:gd name="textAreaLeft" fmla="*/ 360000 w 1577520"/>
              <a:gd name="textAreaRight" fmla="*/ 1217520 w 15775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2400" y="3249720"/>
            <a:ext cx="1641240" cy="845640"/>
          </a:xfrm>
          <a:custGeom>
            <a:avLst/>
            <a:gdLst>
              <a:gd name="textAreaLeft" fmla="*/ 374400 w 1641240"/>
              <a:gd name="textAreaRight" fmla="*/ 1266840 w 164124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82360" y="3249720"/>
            <a:ext cx="1391760" cy="845640"/>
          </a:xfrm>
          <a:custGeom>
            <a:avLst/>
            <a:gdLst>
              <a:gd name="textAreaLeft" fmla="*/ 317520 w 1391760"/>
              <a:gd name="textAreaRight" fmla="*/ 1074240 w 139176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37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895120" y="2438280"/>
            <a:ext cx="2514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572000" y="251460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55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26560" y="1661040"/>
            <a:ext cx="59853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06640" y="3249720"/>
            <a:ext cx="7003440" cy="845640"/>
            <a:chOff x="2006640" y="3249720"/>
            <a:chExt cx="7003440" cy="845640"/>
          </a:xfrm>
        </p:grpSpPr>
        <p:sp>
          <p:nvSpPr>
            <p:cNvPr id="175" name=""/>
            <p:cNvSpPr/>
            <p:nvPr/>
          </p:nvSpPr>
          <p:spPr>
            <a:xfrm>
              <a:off x="2006640" y="3249720"/>
              <a:ext cx="1577520" cy="845640"/>
            </a:xfrm>
            <a:custGeom>
              <a:avLst/>
              <a:gdLst>
                <a:gd name="textAreaLeft" fmla="*/ 360000 w 1577520"/>
                <a:gd name="textAreaRight" fmla="*/ 1217520 w 157752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od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32400" y="3249720"/>
              <a:ext cx="1641240" cy="845640"/>
            </a:xfrm>
            <a:custGeom>
              <a:avLst/>
              <a:gdLst>
                <a:gd name="textAreaLeft" fmla="*/ 374400 w 1641240"/>
                <a:gd name="textAreaRight" fmla="*/ 1266840 w 164124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i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82360" y="3249720"/>
              <a:ext cx="1391760" cy="845640"/>
            </a:xfrm>
            <a:custGeom>
              <a:avLst/>
              <a:gdLst>
                <a:gd name="textAreaLeft" fmla="*/ 317520 w 1391760"/>
                <a:gd name="textAreaRight" fmla="*/ 1074240 w 13917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ou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38920" y="3249720"/>
              <a:ext cx="2171160" cy="845640"/>
            </a:xfrm>
            <a:custGeom>
              <a:avLst/>
              <a:gdLst>
                <a:gd name="textAreaLeft" fmla="*/ 495720 w 2171160"/>
                <a:gd name="textAreaRight" fmla="*/ 1675440 w 2171160"/>
                <a:gd name="textAreaTop" fmla="*/ 192960 h 845640"/>
                <a:gd name="textAreaBottom" fmla="*/ 652680 h 84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ar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362320" y="5470560"/>
          <a:ext cx="132084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70560"/>
                    <a:ext cx="132084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267080" y="5460840"/>
          <a:ext cx="1371600" cy="139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5460840"/>
                    <a:ext cx="1371600" cy="13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215040" y="5410080"/>
          <a:ext cx="1273320" cy="1447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15040" y="5410080"/>
                    <a:ext cx="12733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26668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41148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4114800"/>
            <a:ext cx="3886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971800" y="41148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9720" y="411480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4114800"/>
            <a:ext cx="2361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352680" y="4038480"/>
            <a:ext cx="2438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10516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91320" y="40384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3124080" y="51814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5029200" y="51814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76360" y="5181480"/>
            <a:ext cx="5181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5257800" y="51814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162920" y="52578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1:  Construct a Decision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676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3352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572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ub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1800" y="1661040"/>
            <a:ext cx="6559560" cy="649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OOSE THE IDEAL VEN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505320" y="23623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4952880" y="2438280"/>
            <a:ext cx="5335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67840" y="2433240"/>
            <a:ext cx="309960" cy="82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91320" y="2362320"/>
            <a:ext cx="19810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0760" y="3249720"/>
            <a:ext cx="1423080" cy="845640"/>
          </a:xfrm>
          <a:custGeom>
            <a:avLst/>
            <a:gdLst>
              <a:gd name="textAreaLeft" fmla="*/ 324720 w 1423080"/>
              <a:gd name="textAreaRight" fmla="*/ 1098360 w 142308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98080" y="3249720"/>
            <a:ext cx="2079000" cy="845640"/>
          </a:xfrm>
          <a:custGeom>
            <a:avLst/>
            <a:gdLst>
              <a:gd name="textAreaLeft" fmla="*/ 474480 w 2079000"/>
              <a:gd name="textAreaRight" fmla="*/ 1604520 w 207900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688640" y="3249720"/>
            <a:ext cx="3046320" cy="845640"/>
          </a:xfrm>
          <a:custGeom>
            <a:avLst/>
            <a:gdLst>
              <a:gd name="textAreaLeft" fmla="*/ 695160 w 3046320"/>
              <a:gd name="textAreaRight" fmla="*/ 2351160 w 30463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37880" y="3249720"/>
            <a:ext cx="1453320" cy="845640"/>
          </a:xfrm>
          <a:custGeom>
            <a:avLst/>
            <a:gdLst>
              <a:gd name="textAreaLeft" fmla="*/ 331560 w 1453320"/>
              <a:gd name="textAreaRight" fmla="*/ 1121760 w 1453320"/>
              <a:gd name="textAreaTop" fmla="*/ 192960 h 845640"/>
              <a:gd name="textAreaBottom" fmla="*/ 652680 h 84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4648320"/>
            <a:ext cx="99036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4648320"/>
            <a:ext cx="914400" cy="459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1295280"/>
            <a:ext cx="0" cy="556272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467120" y="419112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000" y="41911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41148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66880" y="4114800"/>
            <a:ext cx="22100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66880" y="4114800"/>
            <a:ext cx="3886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971800" y="4114800"/>
            <a:ext cx="14479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4114800"/>
            <a:ext cx="5331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4114800"/>
            <a:ext cx="236196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352680" y="4038480"/>
            <a:ext cx="2438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5160" y="403848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4038480"/>
            <a:ext cx="9903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124080" y="5181480"/>
            <a:ext cx="4114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029200" y="5181480"/>
            <a:ext cx="22096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276360" y="5181480"/>
            <a:ext cx="5181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5257800" y="51814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162920" y="5257800"/>
            <a:ext cx="1295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981080" y="5715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38480" y="57150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2200" y="5715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ndo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2:  Construct Pairwise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1936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3809880" cy="17067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952880" y="3505320"/>
            <a:ext cx="3667320" cy="15206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00600" y="1256760"/>
            <a:ext cx="4114800" cy="1680840"/>
          </a:xfrm>
          <a:prstGeom prst="wedgeRoundRectCallout">
            <a:avLst>
              <a:gd name="adj1" fmla="val -111837"/>
              <a:gd name="adj2" fmla="val 19333"/>
              <a:gd name="adj3" fmla="val 16667"/>
            </a:avLst>
          </a:prstGeom>
          <a:gradFill rotWithShape="0">
            <a:gsLst>
              <a:gs pos="0">
                <a:srgbClr val="4242a0"/>
              </a:gs>
              <a:gs pos="100000">
                <a:srgbClr val="0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th respect to achieving th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GO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ow important is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BODY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compared to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MIN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RESENTATIO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133720"/>
            <a:ext cx="73911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HP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mmon AHP Applic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II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AHP Examp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IV.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Final Though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3: Selec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2104920"/>
            <a:ext cx="3505320" cy="19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veral Scale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itativ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al Judg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aty’s Nine Point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05320" y="1447920"/>
            <a:ext cx="0" cy="4724280"/>
          </a:xfrm>
          <a:prstGeom prst="line">
            <a:avLst/>
          </a:prstGeom>
          <a:ln w="1908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838680" y="1828800"/>
            <a:ext cx="5305320" cy="4111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715000" y="1828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4: Complete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396216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 flipH="1">
            <a:off x="1599840" y="2819520"/>
            <a:ext cx="6094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4724280" y="2743200"/>
            <a:ext cx="4572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924320" y="2819520"/>
            <a:ext cx="228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5: Evaluate for Consist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04920" y="1687680"/>
            <a:ext cx="8076960" cy="21603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28600" y="4191120"/>
            <a:ext cx="85345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HP provides way to check consistency among jud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= Consistency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=Randomized 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I/RI &lt; .10 implies 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0% consistency does not mean you are corr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consistency calls for revaluation of cho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934320" y="1676520"/>
            <a:ext cx="1752480" cy="2361960"/>
          </a:xfrm>
          <a:prstGeom prst="ellipse">
            <a:avLst/>
          </a:prstGeom>
          <a:noFill/>
          <a:ln w="114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ep 6: Synthesize Find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5400" y="4648320"/>
            <a:ext cx="3917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MMULT(B69:E71,L12:L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029200" y="3962520"/>
            <a:ext cx="1828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020080" cy="2494080"/>
          </a:xfrm>
          <a:prstGeom prst="rect">
            <a:avLst/>
          </a:prstGeom>
          <a:ln w="0">
            <a:noFill/>
          </a:ln>
        </p:spPr>
      </p:pic>
      <p:pic>
        <p:nvPicPr>
          <p:cNvPr id="266" name="Sandra" descr=""/>
          <p:cNvPicPr/>
          <p:nvPr/>
        </p:nvPicPr>
        <p:blipFill>
          <a:blip r:embed="rId2"/>
          <a:stretch/>
        </p:blipFill>
        <p:spPr>
          <a:xfrm>
            <a:off x="6477120" y="4419720"/>
            <a:ext cx="169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AIT !!!!!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OH NO !!!!!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GENIUS FAILS 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3210120" cy="4568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352680" y="5334120"/>
            <a:ext cx="714600" cy="12920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5037120" y="2362320"/>
            <a:ext cx="268596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Resource Allocation with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76960" cy="41943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80880" y="4648320"/>
            <a:ext cx="7086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dget is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al is to maximize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ject to budge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ful in allocating resources under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Final Thou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0880" y="990720"/>
            <a:ext cx="8153640" cy="75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HP is a flexible framework for decisions involving both quantitative and qualitative data,  uncertainty, and multiple objectiv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Hierarchical thinking alone can be useful and virtually any problem can be structured as a hierarch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an be used individually or in group decision setting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sider using Expert Cho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mbine with other models for more effective decision ma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Applicable across many fields and for many different types of probl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Not the only MCDM tool avail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3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862760" y="5181480"/>
            <a:ext cx="128124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juran" descr="Professor Juran"/>
          <p:cNvPicPr/>
          <p:nvPr/>
        </p:nvPicPr>
        <p:blipFill>
          <a:blip r:embed="rId2"/>
          <a:stretch/>
        </p:blipFill>
        <p:spPr>
          <a:xfrm>
            <a:off x="6553080" y="5334120"/>
            <a:ext cx="11224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HP: 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348240" y="762120"/>
            <a:ext cx="2795760" cy="36576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1143000"/>
            <a:ext cx="6324480" cy="56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P:  A decision model that uses hierarchies and pairwise comparison matrices to evaluate alternatives with respect to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nti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ualita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oals and objecti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d  by Thomas Saaty during 1970s at Whart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ly any problem can be structured as a hierarch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individual or group  decision sett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into account experience, intuition, and provides a test for 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implemented with Expert Choice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 algn="just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400800" y="4724280"/>
            <a:ext cx="27432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HP: 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89154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or Selectio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/Program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 Attractiveness/Facility 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ital Budg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&amp;D Funding 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folio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c Policy Deb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Prediction and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conomic Forecas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rporate Strategic 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38480" y="1523880"/>
            <a:ext cx="5105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2438280"/>
            <a:ext cx="739152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n Applied Example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source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ahoma"/>
              </a:rPr>
              <a:t>Analytic Hierarchy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1828800"/>
            <a:ext cx="7391520" cy="41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Choosing the Ideal Ma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at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ahoma"/>
              </a:rPr>
              <a:t>PTMBAMatch.co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ance, Love, and L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ization, Prioritization, and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592360" y="4183200"/>
            <a:ext cx="4265640" cy="777600"/>
            <a:chOff x="2592360" y="4183200"/>
            <a:chExt cx="4265640" cy="777600"/>
          </a:xfrm>
        </p:grpSpPr>
        <p:sp>
          <p:nvSpPr>
            <p:cNvPr id="57" name=""/>
            <p:cNvSpPr/>
            <p:nvPr/>
          </p:nvSpPr>
          <p:spPr>
            <a:xfrm>
              <a:off x="2666880" y="4191120"/>
              <a:ext cx="4191120" cy="76176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592360" y="4183200"/>
              <a:ext cx="4187880" cy="777600"/>
            </a:xfrm>
            <a:prstGeom prst="line">
              <a:avLst/>
            </a:prstGeom>
            <a:ln w="101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The Situatio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719440" cy="4416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828800" y="5486400"/>
            <a:ext cx="116676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80880" y="5486400"/>
            <a:ext cx="1013040" cy="1189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379680" y="5562720"/>
            <a:ext cx="1192320" cy="11109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4572000" y="5904000"/>
            <a:ext cx="2971800" cy="7365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8001000" y="5334120"/>
            <a:ext cx="912960" cy="13636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819520" y="1219320"/>
            <a:ext cx="6019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ing skills and tools obtained in Decision Models, Mr. Al A. devises an index arbitrage strategy that apparently allows him to earn very large risk-free profits forever.  Very rich, but burned out by work and school, Mr. Al A. decides to place a personals ad on PTMBAMatch.com, the Internet’s premier dating site for part-time MBAs.  Soon his email box begins to fill up and Mr. Al A. is faced with a tough decis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WHO TO DATE 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am2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248200" cy="3915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13372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Sandra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717640" cy="3962520"/>
          </a:xfrm>
          <a:prstGeom prst="rect">
            <a:avLst/>
          </a:prstGeom>
          <a:ln w="0">
            <a:noFill/>
          </a:ln>
        </p:spPr>
      </p:pic>
      <p:pic>
        <p:nvPicPr>
          <p:cNvPr id="76" name="Pam2" descr=""/>
          <p:cNvPicPr/>
          <p:nvPr/>
        </p:nvPicPr>
        <p:blipFill>
          <a:blip r:embed="rId2"/>
          <a:stretch/>
        </p:blipFill>
        <p:spPr>
          <a:xfrm>
            <a:off x="380880" y="2438280"/>
            <a:ext cx="2248200" cy="391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8600" y="15228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am 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un, but Tr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838080"/>
            <a:ext cx="2743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andra 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irl Next D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4T18:12:16Z</dcterms:created>
  <dc:creator>John Novak</dc:creator>
  <dc:description/>
  <dc:language>en-US</dc:language>
  <cp:lastModifiedBy>Stern School</cp:lastModifiedBy>
  <dcterms:modified xsi:type="dcterms:W3CDTF">2002-08-05T21:45:00Z</dcterms:modified>
  <cp:revision>13</cp:revision>
  <dc:subject/>
  <dc:title>ANALYTIC HIERARCHY PROCESS</dc:title>
</cp:coreProperties>
</file>